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8D4-6D27-493B-81EC-8E2FC60A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3FF-F916-4704-8F1F-2C7144E9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811-B225-4F22-B2BA-B809F507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5A1-CD98-4C64-93F2-499E7C75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14EF-CA6C-40EB-8C99-B071D63B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5F42-7277-4D24-B4C3-0BEE22E2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A494-9E8F-4383-8B85-A3579203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B4B0-94AE-4DAD-B78F-BABBAF06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45A6-6DDC-499A-ACDD-4C89BB64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3992-0F83-4613-9AE3-11C190EA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2FD4-35FF-4BB9-8F67-E4EE590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1BD-BAFF-44BF-8A70-73B1F19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3D74-A0B6-4289-A179-87A9D77A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8D12-EF09-49F3-9295-6C9CA69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00A1-7F3B-47DE-AC18-A82845FC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0E06-38E9-477F-B2EB-05128D85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E1E8-906F-44CC-93A6-259F6865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45F-4897-49DE-9815-650389E7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85D-AFBA-42E8-8225-9DDD5D83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0D2-45F5-4867-A543-D3DF61D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829-1551-46F2-8D70-1E4B5809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56F-8A2B-471E-B399-366C25E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E9B-44A0-4E95-8E67-46BCADE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8E0-E434-40E5-8D91-F6411D74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C76-F7CA-4319-A65B-170A90791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3AE5-7A97-4114-83F3-26214786E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ass Bivalv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Two-Shelled” Mollu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960" y="1371240"/>
            <a:ext cx="392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Zebra mussel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clog the intake and outtake pipe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dustrial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ts.  They were introduced into the Great Lake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rth America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ships from norther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urope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1986.  By 1994, these pests had increased their residential area to the Mississippi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iver Delta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w Orleans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They e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hytoplank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is an important food source for other aquatic animals.  The control of th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vasive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st will cost the United Stat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illions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26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earl Indust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ltu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 pearl industry is vital to Japan and other regions of the world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Japanese economy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 is an important part of the world’s economy and affects the economy of ot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untries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500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Bivalv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lusks in the Clas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ivalvi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also known a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lecypod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or “hatchet-footed” anima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ival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means that they h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range in size from tiny seed shells that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to 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length to the giant South Pacific Clams, which are more th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met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length and weigh more th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und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927600" cy="361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81480" y="3987720"/>
            <a:ext cx="32004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Bivalve Dinn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valves are mostl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ilter fee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is means that they use the wa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urr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li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ir gills to bring in food materials from the w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valves DO NOT hav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d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du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So they can only eat very small food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valve Ho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valves mostly li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in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quatic environ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some also live in the freshwater aquatic environment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kes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nd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ream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215748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ivalv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shells (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f a bivalve are held together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rsal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 of the animal by a hinge liga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tell the age of the bivalve by finding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mbo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oldest part of the shell.  Growth occurs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centric, ringed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around the umbo like the growth  lines on the trunk of a tr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036880"/>
            <a:ext cx="39276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valves in 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92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valves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e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ot that they can stick out between their shells.  They pum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loo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o their foot and cause it to swell and anchor into the sand.  Muscles then contract to pull the blood out of the foot and pull the anim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ward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callop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le shells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move by flapping their shells toget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7960" y="2241720"/>
            <a:ext cx="39276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hange of Gases in Bival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valves use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tle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lls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filter oxygen from the wa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0560" y="1905120"/>
            <a:ext cx="427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king Baby Bival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bivalve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sex animal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This means that they are male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male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typically reprodu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tern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reshwater clam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oduce internally.  Eggs drop in the wat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be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gills and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rtiliz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erm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enter with the water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048040"/>
            <a:ext cx="39276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Should Humans Care About Bivalv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hipworms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actually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ore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to hard surfaces like wood or stone.  They are very destructive if they move into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hipyards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umans like to eat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ivalves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yster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callops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lams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ave long been a staple in the human diet.  Their shells are also used to make decorative items lik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jewelry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6920" y="2243160"/>
            <a:ext cx="3957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6:38:57Z</dcterms:created>
  <dc:creator>kmcgrady</dc:creator>
  <dc:description/>
  <dc:language>en-US</dc:language>
  <cp:lastModifiedBy>kmcgrady</cp:lastModifiedBy>
  <dcterms:modified xsi:type="dcterms:W3CDTF">2011-02-24T20:29:19Z</dcterms:modified>
  <cp:revision>4</cp:revision>
  <dc:subject/>
  <dc:title>Class Bivalvia</dc:title>
</cp:coreProperties>
</file>